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988-7F08-4B07-BADF-C1FD3D12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7A1-C20F-4E03-808F-AF1B146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C5D-D9F0-470C-A026-22D42ACD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176-F6D7-41A2-9475-5DD8D962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68F-A0DB-4845-89D0-4656A136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63E-B1CA-4D00-973C-175B98D2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1FB-CC68-4A91-987C-4F25983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81F-8EEC-4FEC-A6C1-092A8CB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2F4-B73B-47D5-A9BD-D84B39BD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19E-0437-4808-AE1A-BF5A6EE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BE9-007D-40E9-85D8-29F4477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B24-1C9F-460A-9149-7421648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FC9-73A5-4861-975C-22197AF1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png"/><Relationship Id="rId8" Type="http://schemas.openxmlformats.org/officeDocument/2006/relationships/image" Target="../media/image19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image" Target="../media/image16.wmf"/><Relationship Id="rId16" Type="http://schemas.openxmlformats.org/officeDocument/2006/relationships/image" Target="../media/image16.wmf"/><Relationship Id="rId17" Type="http://schemas.openxmlformats.org/officeDocument/2006/relationships/image" Target="../media/image1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280880" cy="1681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1835280" cy="157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54200" cy="18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1873080" cy="94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238880" y="2666880"/>
            <a:ext cx="1538280" cy="150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10080" y="5257800"/>
            <a:ext cx="121932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135920" y="4876920"/>
            <a:ext cx="2008080" cy="162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981080" y="457200"/>
            <a:ext cx="1560600" cy="16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81080" y="2590920"/>
            <a:ext cx="150048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28600" y="2590920"/>
            <a:ext cx="1460520" cy="17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28600" y="5105520"/>
            <a:ext cx="1401840" cy="13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133720" y="4952880"/>
            <a:ext cx="1817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584360" cy="154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413080" y="549360"/>
            <a:ext cx="6480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’ai un chat, Hanni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1268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u as un an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198900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le a un ch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2708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us avons des poi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3500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ous avez des l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429264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les ont deux serpents 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501336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’ai un la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4920" y="189000"/>
            <a:ext cx="3527280" cy="1689120"/>
            <a:chOff x="-34920" y="189000"/>
            <a:chExt cx="3527280" cy="1689120"/>
          </a:xfrm>
        </p:grpSpPr>
        <p:grpSp>
          <p:nvGrpSpPr>
            <p:cNvPr id="62" name=""/>
            <p:cNvGrpSpPr/>
            <p:nvPr/>
          </p:nvGrpSpPr>
          <p:grpSpPr>
            <a:xfrm>
              <a:off x="-34920" y="189000"/>
              <a:ext cx="3400560" cy="1689120"/>
              <a:chOff x="-34920" y="189000"/>
              <a:chExt cx="3400560" cy="168912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34920" y="189000"/>
                <a:ext cx="1498680" cy="16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476360" y="404640"/>
                <a:ext cx="1889280" cy="1144800"/>
              </a:xfrm>
              <a:prstGeom prst="wedgeRoundRectCallout">
                <a:avLst>
                  <a:gd name="adj1" fmla="val -77564"/>
                  <a:gd name="adj2" fmla="val 5263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Hannib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597040" y="404640"/>
              <a:ext cx="89532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780000" y="404640"/>
            <a:ext cx="3429000" cy="1124280"/>
            <a:chOff x="3780000" y="404640"/>
            <a:chExt cx="3429000" cy="1124280"/>
          </a:xfrm>
        </p:grpSpPr>
        <p:sp>
          <p:nvSpPr>
            <p:cNvPr id="69" name=""/>
            <p:cNvSpPr/>
            <p:nvPr/>
          </p:nvSpPr>
          <p:spPr>
            <a:xfrm>
              <a:off x="3780000" y="404640"/>
              <a:ext cx="3429000" cy="1124280"/>
            </a:xfrm>
            <a:prstGeom prst="wedgeRoundRectCallout">
              <a:avLst>
                <a:gd name="adj1" fmla="val -59370"/>
                <a:gd name="adj2" fmla="val 9836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698400" cy="800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4822920" y="620640"/>
            <a:ext cx="828720" cy="70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22920" y="620640"/>
                      <a:ext cx="8287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651640" y="620640"/>
            <a:ext cx="847800" cy="714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651640" y="620640"/>
                      <a:ext cx="847800" cy="7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524720" y="0"/>
            <a:ext cx="1371600" cy="19432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468360" y="2492280"/>
            <a:ext cx="3709800" cy="1408320"/>
            <a:chOff x="468360" y="2492280"/>
            <a:chExt cx="3709800" cy="1408320"/>
          </a:xfrm>
        </p:grpSpPr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468360" y="2781360"/>
              <a:ext cx="95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0"/>
            <a:stretch/>
          </p:blipFill>
          <p:spPr>
            <a:xfrm>
              <a:off x="1405080" y="2781360"/>
              <a:ext cx="952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395440" y="2492280"/>
              <a:ext cx="1782720" cy="14083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1"/>
            <a:stretch/>
          </p:blipFill>
          <p:spPr>
            <a:xfrm>
              <a:off x="2556000" y="2565360"/>
              <a:ext cx="147312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5003640" y="2492280"/>
            <a:ext cx="3429000" cy="1548000"/>
            <a:chOff x="5003640" y="2492280"/>
            <a:chExt cx="3429000" cy="1548000"/>
          </a:xfrm>
        </p:grpSpPr>
        <p:sp>
          <p:nvSpPr>
            <p:cNvPr id="82" name=""/>
            <p:cNvSpPr/>
            <p:nvPr/>
          </p:nvSpPr>
          <p:spPr>
            <a:xfrm>
              <a:off x="5003640" y="2492280"/>
              <a:ext cx="3429000" cy="15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2"/>
            <a:stretch/>
          </p:blipFill>
          <p:spPr>
            <a:xfrm>
              <a:off x="5148000" y="2781360"/>
              <a:ext cx="1270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3"/>
            <a:stretch/>
          </p:blipFill>
          <p:spPr>
            <a:xfrm>
              <a:off x="6514920" y="2709720"/>
              <a:ext cx="126972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395280" y="4941720"/>
            <a:ext cx="3938400" cy="1067040"/>
            <a:chOff x="395280" y="4941720"/>
            <a:chExt cx="3938400" cy="1067040"/>
          </a:xfrm>
        </p:grpSpPr>
        <p:pic>
          <p:nvPicPr>
            <p:cNvPr id="86" name="" descr=""/>
            <p:cNvPicPr/>
            <p:nvPr/>
          </p:nvPicPr>
          <p:blipFill>
            <a:blip r:embed="rId14"/>
            <a:stretch/>
          </p:blipFill>
          <p:spPr>
            <a:xfrm>
              <a:off x="395280" y="4941720"/>
              <a:ext cx="19047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195280" y="5300640"/>
              <a:ext cx="685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5"/>
            <a:stretch/>
          </p:blipFill>
          <p:spPr>
            <a:xfrm>
              <a:off x="2914560" y="5084640"/>
              <a:ext cx="6984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6"/>
            <a:stretch/>
          </p:blipFill>
          <p:spPr>
            <a:xfrm>
              <a:off x="3635280" y="5076720"/>
              <a:ext cx="69840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5219640" y="4437000"/>
            <a:ext cx="3184560" cy="2141640"/>
            <a:chOff x="5219640" y="4437000"/>
            <a:chExt cx="3184560" cy="2141640"/>
          </a:xfrm>
        </p:grpSpPr>
        <p:pic>
          <p:nvPicPr>
            <p:cNvPr id="91" name="" descr=""/>
            <p:cNvPicPr/>
            <p:nvPr/>
          </p:nvPicPr>
          <p:blipFill>
            <a:blip r:embed="rId17"/>
            <a:stretch/>
          </p:blipFill>
          <p:spPr>
            <a:xfrm>
              <a:off x="5219640" y="4437000"/>
              <a:ext cx="14986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804000" y="4869000"/>
              <a:ext cx="1600200" cy="1709640"/>
            </a:xfrm>
            <a:prstGeom prst="wedgeRoundRectCallout">
              <a:avLst>
                <a:gd name="adj1" fmla="val -93055"/>
                <a:gd name="adj2" fmla="val 1128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8"/>
            <a:stretch/>
          </p:blipFill>
          <p:spPr>
            <a:xfrm>
              <a:off x="6948360" y="4941720"/>
              <a:ext cx="13082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1258920" y="170028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162864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1484280"/>
            <a:ext cx="57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068640"/>
            <a:ext cx="57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611820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623736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6:32:59Z</dcterms:created>
  <dc:creator>rhawkes</dc:creator>
  <dc:description/>
  <dc:language>en-US</dc:language>
  <cp:lastModifiedBy>Richard Brake</cp:lastModifiedBy>
  <dcterms:modified xsi:type="dcterms:W3CDTF">2006-11-23T10:37:23Z</dcterms:modified>
  <cp:revision>1</cp:revision>
  <dc:subject/>
  <dc:title>Slide 1</dc:title>
</cp:coreProperties>
</file>